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5DA-489A-4BBF-B2B5-633D4758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86A-7FA3-4645-B06F-5BCAACA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429-1C43-41A8-82AE-F0F4D77E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01E-C00D-4A52-B3FC-706D0FF7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B3F-57A7-4345-BE00-F27BBE58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EEF-813C-4927-AF87-BABEB44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894-6729-4E15-B755-EFE5EE9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FC7-F0E3-4E22-8190-0510AC3B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C55-0833-456B-94D9-7F33AA29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E89-2DC8-47C5-B82D-0A98FC0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B55-0A45-422F-B9B2-58DAF75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658-7FBB-4E06-82C3-7F88A1D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0D5-2EA5-4216-8337-244D63E8E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manners.com/" TargetMode="External"/><Relationship Id="rId2" Type="http://schemas.openxmlformats.org/officeDocument/2006/relationships/hyperlink" Target="http://www.cellphonesafety.info/five-step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e.ksu.edu/digitalcitizenshi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Citizenship - Framework for Teaching Digital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Rib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Services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sas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lgirl"/>
          <p:cNvPicPr/>
          <p:nvPr/>
        </p:nvPicPr>
        <p:blipFill>
          <a:blip r:embed="rId1"/>
          <a:stretch/>
        </p:blipFill>
        <p:spPr>
          <a:xfrm>
            <a:off x="2195640" y="685800"/>
            <a:ext cx="45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31120" y="457200"/>
            <a:ext cx="8634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1: 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sa receives the cell phone, Lisa’s parents sit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er and discuss their excitement as well as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having a cell phone.  They provide Lisa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ell phone usage and they take tim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ir concerns that include etiquette as well as dr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when using the cell phone. They identify websites 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cellmanner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cellphonesafety.info/five-step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allow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more aware of the issues related to cell ph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identify specific expectations of her behavior whe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phone.  Her parents take her back to the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purchased the phone.  They let Lisa 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sten carefully to the conversation.  Lisa and her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peak to other parents and friends who use cell ph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2200" y="193680"/>
            <a:ext cx="866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2: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sa and her parents learn more about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, they began to talk about the implications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 behavior.  The conversation focus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inappropriate uses of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ever, they stress appropriate ways of using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her than over-focus on the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ext, they ask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olicies of her school concerning cell phone 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they want her to find out if she can take it to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, where, how, etc.).  Lisa brings home the 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icy (AUP) that deals with cell phone use o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.  They engage in a series of conversations d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cenarios (situations) where they ask her to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e will use the cell phone in school and with her frie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conversations is to ensure that she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sp of the issues and that her friends may not al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od rol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685800"/>
            <a:ext cx="869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3: 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’s parents begin to allow her to use her phone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asis.  They make it a point to discuss schoo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sk her to reflect on previous conversations deal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 use.  Lisa relates how she is using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reely discusses some of her mistakes such as forg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rn her cell phone to vibrate when she is having a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.  Lisa’s parents try not to be overly harsh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 her that this is a learning process.  They indicat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made similar mistakes when they got their cell phon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3600" y="304920"/>
            <a:ext cx="886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4: Delib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is granted more privileges because she proves he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onsible.  Lisa and her parents sit down and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use of the cell phone on a weekly basis.  They discuss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eels when using the phone.  They also talk about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 cell phones and examine situations (scenarios)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misuse and abuse.  Lisa’s parents ask Lisa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diary dealing with cell phone use.  They ask h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her cell phone behavior for two weeks.  Lisa’s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er to think about mistakes or any bad habits she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how she plans to avoid future mistak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ontinues to get additional privileges because sh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responsible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Reflection and parental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 to be strategies that help her in refining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Citizenship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6668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00920" y="2362320"/>
            <a:ext cx="63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dditional information visit our websit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coe.ksu.edu/digital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- Wh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heckmess"/>
          <p:cNvPicPr/>
          <p:nvPr/>
        </p:nvPicPr>
        <p:blipFill>
          <a:blip r:embed="rId1"/>
          <a:stretch/>
        </p:blipFill>
        <p:spPr>
          <a:xfrm>
            <a:off x="1828800" y="809640"/>
            <a:ext cx="54100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30400" y="1487520"/>
            <a:ext cx="666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we to determine what is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- and what is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we have trouble determining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, how will our children and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at de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ur definition of what is appropri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or in the next gen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41800" y="990720"/>
            <a:ext cx="819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wareness 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nowledge of technology and how it affects others and my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eople use technology without having even a basic awarenes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a digital techn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need to “see themselves” using technology before using 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wareness, many problems emerge without users realizing i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recognize when there is an issue of inappropriate 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considered the appropriateness of my action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differentiate which of my actions are considered misuse or ab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aware of the implications of my actions when using technolog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8840" y="838080"/>
            <a:ext cx="782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Understanding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grasp the uses of technolog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nsidered appropriate or in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re is awareness of how a technology works, then users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which uses are considered misuse or abuse to better underst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technology use.  Users need to have an idea of the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ir actions prior to it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violating laws, policies, or moral codes by using technology in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seen, read, or heard of similar situations?  What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Digital Citizenship provide direction for determin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my actions?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8840" y="838080"/>
            <a:ext cx="798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Ac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 in the most appropriat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information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able to use technology by understanding its implications to oth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s a critical process in Digital Citizenship.  Too often users only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ed with this stage without reflecting on the other par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Stage Technology Learning Framework.  But by mov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stages they and others around them can have a better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information available, have I made the best decision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others, who I respect, act in a similar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enants of Digital Citizenship support my action in this situ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87000" y="762120"/>
            <a:ext cx="843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valua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how technology was used and deter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as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difficult to “go back” and think about one’s actions after they occur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necessary part of the process to decide if the user was correct or no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ime to contemplate, this action will most be the same action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my decis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the outcome of the 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my behavior have a positive or negative influence on other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go back and evaluate how I used the technology and look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that might be considered for the future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think about the nine areas of digital citizenship and see if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that should be evaluated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3808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Refl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Four-Stage Technology Learning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nderstanding Digital Citize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Birthday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 wants a cell phone.  She feels “out of touch” with her friends becaus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have cell phones and they want to keep in touch with her.”  Lisa’s par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about having their daughter act responsible when using a cell ph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have seen friends’ children use cell phones inappropriately on numerous occa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talking to their friends when they are with their parents, talking loudly in publ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pictures without people’s permission).  They are especially concerned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issues (such as driving a car while using a cell phone).  After careful thou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decide to buy her a cell phone for her upcoming sixteenth birth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Lisa’s birthday gets closer they go out and begin to look at different phon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plans.  Lisa would like a small cell phone with a built-in camera so that she 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pictures of her friends.  Her parents are not sure if having a phone with a camera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idea, but their price is almost the same as the regular cell phones.  On her birthda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present her with the cell phone.  But they make one request.  Before s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s using the cell phone, she must follow the Four-Stage Learning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age in Digital Reflection) before using her cell phone on a regular ba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5:02:16Z</dcterms:created>
  <dc:creator>Mike Ribble</dc:creator>
  <dc:description/>
  <dc:language>en-US</dc:language>
  <cp:lastModifiedBy>public</cp:lastModifiedBy>
  <dcterms:modified xsi:type="dcterms:W3CDTF">2009-02-09T19:44:24Z</dcterms:modified>
  <cp:revision>6</cp:revision>
  <dc:subject/>
  <dc:title>Digital Citizenship - Framework for Teaching Digital Citizenship</dc:title>
</cp:coreProperties>
</file>