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F059-379A-46E8-9A6E-88A84AAF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C82-9559-4670-85B7-E5061340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37C-AE3A-4B57-8C30-992A25FF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8F2-EE78-4EA3-AF52-A66A0F56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75B-FC48-4420-8557-D52D4C02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326-D98B-4244-9A10-79427A55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B59-C631-4E96-B969-893B8431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678-147A-42D4-8A9A-BD83FBAD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5E5-DA30-4864-BEFF-E2FC9BF6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416-C779-4631-87C0-3F742CE9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3575-77A3-4AB1-930B-71327A33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02E-E23C-4D8E-9399-9ABBBEF8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74B1-6546-4897-819F-48D6E068D4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ellmanners.com/" TargetMode="External"/><Relationship Id="rId2" Type="http://schemas.openxmlformats.org/officeDocument/2006/relationships/hyperlink" Target="http://www.cellphonesafety.info/five-steps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oe.ksu.edu/digitalcitizenship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26668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Citizenship - Framework for Teaching Digital Citize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e Rib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al Services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ge of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nsas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ellgirl"/>
          <p:cNvPicPr/>
          <p:nvPr/>
        </p:nvPicPr>
        <p:blipFill>
          <a:blip r:embed="rId1"/>
          <a:stretch/>
        </p:blipFill>
        <p:spPr>
          <a:xfrm>
            <a:off x="2195640" y="685800"/>
            <a:ext cx="4510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143000" y="914400"/>
          <a:ext cx="70866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7086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31120" y="457200"/>
            <a:ext cx="8634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1: 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Lisa receives the cell phone, Lisa’s parents sit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er and discuss their excitement as well as the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about having a cell phone.  They provide Lisa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cell phone usage and they take tim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ir concerns that include etiquette as well as dri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ly when using the cell phone. They identify websites s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www.cellmanners.com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www.cellphonesafety.info/five-steps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will allow L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come more aware of the issues related to cell phon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identify specific expectations of her behavior when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phone.  Her parents take her back to the comp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y purchased the phone.  They let Lisa ask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listen carefully to the conversation.  Lisa and her par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speak to other parents and friends who use cell ph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32200" y="193680"/>
            <a:ext cx="8664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2: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isa and her parents learn more about the cell ph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, they began to talk about the implications of 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Citizenship behavior.  The conversation focuses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and inappropriate uses of the cell ph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ever, they stress appropriate ways of using the cell ph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ther than over-focus on the 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Next, they ask L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policies of her school concerning cell phone u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ally, they want her to find out if she can take it to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n, where, how, etc.).  Lisa brings home the Accep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olicy (AUP) that deals with cell phone use o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.  They engage in a series of conversations dea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cenarios (situations) where they ask her to indic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e will use the cell phone in school and with her friend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conversations is to ensure that she h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grasp of the issues and that her friends may not alw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good role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685800"/>
            <a:ext cx="8697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3: 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’s parents begin to allow her to use her phone o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asis.  They make it a point to discuss school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sk her to reflect on previous conversations deal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phone use.  Lisa relates how she is using the cell ph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freely discusses some of her mistakes such as forge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urn her cell phone to vibrate when she is having a priv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.  Lisa’s parents try not to be overly harsh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e her that this is a learning process.  They indicat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made similar mistakes when they got their cell phon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73600" y="304920"/>
            <a:ext cx="8864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4: Delib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 is granted more privileges because she proves her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responsible.  Lisa and her parents sit down and talk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use of the cell phone on a weekly basis.  They discuss 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feels when using the phone.  They also talk about 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use cell phones and examine situations (scenarios)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e misuse and abuse.  Lisa’s parents ask Lisa to k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ort diary dealing with cell phone use.  They ask h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her cell phone behavior for two weeks.  Lisa’s par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her to think about mistakes or any bad habits she h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nd how she plans to avoid future mistak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 continues to get additional privileges because sh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ing responsible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gital Reflection and parental guid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ear to be strategies that help her in refining 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gital Citizenship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1066680" y="914400"/>
          <a:ext cx="70866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7086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600920" y="2362320"/>
            <a:ext cx="635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dditional information visit our website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coe.ksu.edu/digitalcitize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 for your attention - Wha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heckmess"/>
          <p:cNvPicPr/>
          <p:nvPr/>
        </p:nvPicPr>
        <p:blipFill>
          <a:blip r:embed="rId1"/>
          <a:stretch/>
        </p:blipFill>
        <p:spPr>
          <a:xfrm>
            <a:off x="1828800" y="809640"/>
            <a:ext cx="541008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130400" y="1487520"/>
            <a:ext cx="666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we to determine what is consid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- and what is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f we have trouble determining wha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, how will our children and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at determ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our definition of what is appropriate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, or in the next gene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2"/>
          <p:cNvGraphicFramePr/>
          <p:nvPr/>
        </p:nvGraphicFramePr>
        <p:xfrm>
          <a:off x="1143000" y="914400"/>
          <a:ext cx="70866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7086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541800" y="990720"/>
            <a:ext cx="819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Awareness 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nowledge of technology and how it affects others and my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people use technology without having even a basic awarenes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of a digital technolog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need to “see themselves” using technology before using i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awareness, many problems emerge without users realizing it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recognize when there is an issue of inappropriate us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y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I considered the appropriateness of my actions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 differentiate which of my actions are considered misuse or abus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or why no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I aware of the implications of my actions when using technolog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18840" y="838080"/>
            <a:ext cx="782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Understanding 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grasp the uses of technology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considered appropriate or in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re is awareness of how a technology works, then users n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dentify which uses are considered misuse or abuse to better underst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technology use.  Users need to have an idea of the out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ir actions prior to it happ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I violating laws, policies, or moral codes by using technology in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y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I seen, read, or heard of similar situations?  What w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c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Digital Citizenship provide direction for determining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priateness of my actions?  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18840" y="838080"/>
            <a:ext cx="7980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Action 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echnology in the most appropriate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information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able to use technology by understanding its implications to other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is a critical process in Digital Citizenship.  Too often users only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rned with this stage without reflecting on the other par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-Stage Technology Learning Framework.  But by moving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lier stages they and others around them can have a better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echnolo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e information available, have I made the best decision in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uat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others, who I respect, act in a similar situ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tenants of Digital Citizenship support my action in this situ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87000" y="762120"/>
            <a:ext cx="843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Evaluation 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ing about how technology was used and deter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was 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difficult to “go back” and think about one’s actions after they occurr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necessary part of the process to decide if the user was correct or no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ime to contemplate, this action will most be the same action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I satisfied with my decis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I satisfied with the outcome of the situat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d my behavior have a positive or negative influence on others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go back and evaluate how I used the technology and look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s that might be considered for the future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think about the nine areas of digital citizenship and see if ther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ments that should be evaluated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04920" y="380880"/>
            <a:ext cx="8458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Refle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Four-Stage Technology Learning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Understanding Digital Citizen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a’s Birthday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a wants a cell phone.  She feels “out of touch” with her friends because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have cell phones and they want to keep in touch with her.”  Lisa’s parents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about having their daughter act responsible when using a cell ph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have seen friends’ children use cell phones inappropriately on numerous occa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.g. talking to their friends when they are with their parents, talking loudly in publi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ing pictures without people’s permission).  They are especially concerned ab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ety issues (such as driving a car while using a cell phone).  After careful though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a’s parents decide to buy her a cell phone for her upcoming sixteenth birth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Lisa’s birthday gets closer they go out and begin to look at different phon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ess plans.  Lisa would like a small cell phone with a built-in camera so that she 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pictures of her friends.  Her parents are not sure if having a phone with a camera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ood idea, but their price is almost the same as the regular cell phones.  On her birthda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a’s parents present her with the cell phone.  But they make one request.  Before s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s using the cell phone, she must follow the Four-Stage Learning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gage in Digital Reflection) before using her cell phone on a regular bas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5:02:16Z</dcterms:created>
  <dc:creator>Mike Ribble</dc:creator>
  <dc:description/>
  <dc:language>en-US</dc:language>
  <cp:lastModifiedBy>public</cp:lastModifiedBy>
  <dcterms:modified xsi:type="dcterms:W3CDTF">2009-02-09T19:44:24Z</dcterms:modified>
  <cp:revision>6</cp:revision>
  <dc:subject/>
  <dc:title>Digital Citizenship - Framework for Teaching Digital Citizenship</dc:title>
</cp:coreProperties>
</file>