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D394-636C-4D41-B3D4-63D3749C7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CA6B-4EB7-404B-AEB3-AA9817AF7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BC76-E915-44A6-846E-52F251EA4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5F2B-15B6-4992-95C3-76D6BC7C4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E0DD-0DE6-4536-ABA6-D717BAB12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89D6-3120-4349-BA7C-5B46C2785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6D26-7BD9-4973-ADDC-E650D873D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BA80-19B3-47D2-9200-915147D9F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2C32-0F35-42F2-AAEC-16F95C532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CD18-C37A-47B6-8C80-8CA77CA8D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E41A-B740-40C9-9691-B9C32A4C4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597B-6E48-489B-9317-54CD2388A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6ADB2-03A8-4A4B-A84F-048DB9B662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cellmanners.com/" TargetMode="External"/><Relationship Id="rId2" Type="http://schemas.openxmlformats.org/officeDocument/2006/relationships/hyperlink" Target="http://www.cellphonesafety.info/five-steps.html" TargetMode="Externa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coe.ksu.edu/digitalcitizenship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266688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gital Citizenship - Framework for Teaching Digital Citizenshi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00800" cy="243828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ke Rib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ructional Services Coordin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llege of Edu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nsas State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cellgirl"/>
          <p:cNvPicPr/>
          <p:nvPr/>
        </p:nvPicPr>
        <p:blipFill>
          <a:blip r:embed="rId1"/>
          <a:stretch/>
        </p:blipFill>
        <p:spPr>
          <a:xfrm>
            <a:off x="2195640" y="685800"/>
            <a:ext cx="45100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Object 2"/>
          <p:cNvGraphicFramePr/>
          <p:nvPr/>
        </p:nvGraphicFramePr>
        <p:xfrm>
          <a:off x="1143000" y="914400"/>
          <a:ext cx="7086600" cy="4952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914400"/>
                    <a:ext cx="70866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231120" y="457200"/>
            <a:ext cx="86342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ge 1:  Aware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Lisa receives the cell phone, Lisa’s parents sit dow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her and discuss their excitement as well as thei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rns about having a cell phone.  They provide Lisa wit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ation about cell phone usage and they take time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their concerns that include etiquette as well as driv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fely when using the cell phone. They identify websites su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Arial"/>
                <a:hlinkClick r:id="rId1"/>
              </a:rPr>
              <a:t>www.cellmanners.com/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Arial"/>
                <a:hlinkClick r:id="rId2"/>
              </a:rPr>
              <a:t>www.cellphonesafety.info/five-steps.htm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at will allow Lis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come more aware of the issues related to cell phone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identify specific expectations of her behavior when us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ell phone.  Her parents take her back to the compan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they purchased the phone.  They let Lisa ask ques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listen carefully to the conversation.  Lisa and her par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speak to other parents and friends who use cell phon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232200" y="193680"/>
            <a:ext cx="866484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ge 2: Understa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Lisa and her parents learn more about the cell pho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chnology, they began to talk about the implications of 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gital Citizenship behavior.  The conversation focuses 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priate and inappropriate uses of the cell phon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owever, they stress appropriate ways of using the cell pho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ather than over-focus on the negati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Next, they ask Lis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the policies of her school concerning cell phone us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ically, they want her to find out if she can take it to schoo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when, where, how, etc.).  Lisa brings home the Acceptab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Policy (AUP) that deals with cell phone use on schoo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erty.  They engage in a series of conversations deal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scenarios (situations) where they ask her to indic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e will use the cell phone in school and with her friend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urpose of the conversations is to ensure that she has 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grasp of the issues and that her friends may not alway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good role mode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228600" y="685800"/>
            <a:ext cx="86979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ge 3: 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a’s parents begin to allow her to use her phone on 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mited basis.  They make it a point to discuss school ev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ask her to reflect on previous conversations dealing wit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ll phone use.  Lisa relates how she is using the cell phon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 freely discusses some of her mistakes such as forget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turn her cell phone to vibrate when she is having a priv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sation.  Lisa’s parents try not to be overly harsh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re her that this is a learning process.  They indicate th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have made similar mistakes when they got their cell phone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273600" y="304920"/>
            <a:ext cx="88646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ge 4: Delib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a is granted more privileges because she proves hersel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responsible.  Lisa and her parents sit down and talk abou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r use of the cell phone on a weekly basis.  They discuss ho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 feels when using the phone.  They also talk about ho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s use cell phones and examine situations (scenarios) t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itute misuse and abuse.  Lisa’s parents ask Lisa to kee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hort diary dealing with cell phone use.  They ask her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rd her cell phone behavior for two weeks.  Lisa’s par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k her to think about mistakes or any bad habits she h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ed and how she plans to avoid future mistake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a continues to get additional privileges because she 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coming responsible.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igital Reflection and parental guida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ppear to be strategies that help her in refining 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igital Citizenship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Object 2"/>
          <p:cNvGraphicFramePr/>
          <p:nvPr/>
        </p:nvGraphicFramePr>
        <p:xfrm>
          <a:off x="1066680" y="914400"/>
          <a:ext cx="7086600" cy="4952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914400"/>
                    <a:ext cx="70866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1600920" y="2362320"/>
            <a:ext cx="6350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dditional information visit our website 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Arial"/>
                <a:hlinkClick r:id="rId1"/>
              </a:rPr>
              <a:t>http://coe.ksu.edu/digitalcitizen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nk you for your attention - What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you ha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checkmess"/>
          <p:cNvPicPr/>
          <p:nvPr/>
        </p:nvPicPr>
        <p:blipFill>
          <a:blip r:embed="rId1"/>
          <a:stretch/>
        </p:blipFill>
        <p:spPr>
          <a:xfrm>
            <a:off x="1828800" y="809640"/>
            <a:ext cx="5410080" cy="53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1130400" y="1487520"/>
            <a:ext cx="6666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are we to determine what is consider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priate - and what is no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if we have trouble determining what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priate, how will our children and stud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that determin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our definition of what is appropriate chan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 time, or in the next gener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Object 2"/>
          <p:cNvGraphicFramePr/>
          <p:nvPr/>
        </p:nvGraphicFramePr>
        <p:xfrm>
          <a:off x="1143000" y="914400"/>
          <a:ext cx="7086600" cy="4952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914400"/>
                    <a:ext cx="70866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4"/>
          <p:cNvSpPr/>
          <p:nvPr/>
        </p:nvSpPr>
        <p:spPr>
          <a:xfrm>
            <a:off x="541800" y="990720"/>
            <a:ext cx="8198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Awareness -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knowledge of technology and how it affects others and mysel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people use technology without having even a basic awareness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rpose of a digital technology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dents need to “see themselves” using technology before using it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out awareness, many problems emerge without users realizing it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I recognize when there is an issue of inappropriate use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echnology?  Why or why no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ve I considered the appropriateness of my actions? Why or why no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I differentiate which of my actions are considered misuse or abuse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y or why not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 I aware of the implications of my actions when using technology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y or why no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618840" y="838080"/>
            <a:ext cx="7828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Understanding -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ility to grasp the uses of technology th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 considered appropriate or inappropria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ce there is awareness of how a technology works, then users ne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identify which uses are considered misuse or abuse to better underst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ropriate technology use.  Users need to have an idea of the outco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their actions prior to it happen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 I violating laws, policies, or moral codes by using technology in th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y? Why or why no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ve I seen, read, or heard of similar situations?  What was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utcom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es Digital Citizenship provide direction for determining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propriateness of my actions?  How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4"/>
          <p:cNvSpPr/>
          <p:nvPr/>
        </p:nvSpPr>
        <p:spPr>
          <a:xfrm>
            <a:off x="618840" y="838080"/>
            <a:ext cx="79804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 Action -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ing technology in the most appropriate wa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the information avail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ing able to use technology by understanding its implications to others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f is a critical process in Digital Citizenship.  Too often users only a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cerned with this stage without reflecting on the other parts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-Stage Technology Learning Framework.  But by moving throug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earlier stages they and others around them can have a better experie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ing technolog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ven the information available, have I made the best decision in t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tuation?  Why or why no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would others, who I respect, act in a similar situati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the tenants of Digital Citizenship support my action in this situation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y or why no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5"/>
          <p:cNvSpPr/>
          <p:nvPr/>
        </p:nvSpPr>
        <p:spPr>
          <a:xfrm>
            <a:off x="387000" y="762120"/>
            <a:ext cx="8430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 Evaluation -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nking about how technology was used and determ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it was appropria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can be difficult to “go back” and think about one’s actions after they occurred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is a necessary part of the process to decide if the user was correct or not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out time to contemplate, this action will most be the same action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 I satisfied with my decision?  Why or why no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 I satisfied with the outcome of the situation?  Why or why no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d my behavior have a positive or negative influence on others? Wh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I go back and evaluate how I used the technology and look f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anges that might be considered for the future?  Why or why no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I think about the nine areas of digital citizenship and see if there a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mprovements that should be evaluated?  Why or why no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304920" y="380880"/>
            <a:ext cx="845820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gital Reflec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ing the Four-Stage Technology Learning Frame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Understanding Digital Citizensh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sa’s Birthday Pres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sa wants a cell phone.  She feels “out of touch” with her friends because the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have cell phones and they want to keep in touch with her.”  Lisa’s parents ar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cerned about having their daughter act responsible when using a cell pho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y have seen friends’ children use cell phones inappropriately on numerous occa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e.g. talking to their friends when they are with their parents, talking loudly in public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king pictures without people’s permission).  They are especially concerned abou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afety issues (such as driving a car while using a cell phone).  After careful thought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sa’s parents decide to buy her a cell phone for her upcoming sixteenth birthda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 Lisa’s birthday gets closer they go out and begin to look at different phones a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reless plans.  Lisa would like a small cell phone with a built-in camera so that she ca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ke pictures of her friends.  Her parents are not sure if having a phone with a camera i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good idea, but their price is almost the same as the regular cell phones.  On her birthday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sa’s parents present her with the cell phone.  But they make one request.  Before s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gins using the cell phone, she must follow the Four-Stage Learning Framewor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engage in Digital Reflection) before using her cell phone on a regular basi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4T15:02:16Z</dcterms:created>
  <dc:creator>Mike Ribble</dc:creator>
  <dc:description/>
  <dc:language>en-US</dc:language>
  <cp:lastModifiedBy>public</cp:lastModifiedBy>
  <dcterms:modified xsi:type="dcterms:W3CDTF">2009-02-09T19:44:24Z</dcterms:modified>
  <cp:revision>6</cp:revision>
  <dc:subject/>
  <dc:title>Digital Citizenship - Framework for Teaching Digital Citizenship</dc:title>
</cp:coreProperties>
</file>