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EDED-08E0-43C4-BE55-C3A74B8C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B280-24B4-4496-9113-5822E9A6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81AF-7253-4414-A738-D432A51E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62F8-CF62-4C01-8853-61453E4E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1AA5-652B-4D68-9C56-8645A9A0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9A35-A5C8-4D18-8335-A82B1973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48E5-6BEA-424A-B0CE-F0670EC9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8B48-F9DE-4858-BAA8-B455A9E1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540C-BFF8-482D-9CA1-4A5BD5ED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2F59-0852-4FE1-9A4A-A8FC27AB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CE49-C888-419D-9667-891268A7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7026-842A-480F-A462-FE4F1237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9B9A-D331-4B70-84FD-74F445D6D7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ellmanners.com/" TargetMode="External"/><Relationship Id="rId2" Type="http://schemas.openxmlformats.org/officeDocument/2006/relationships/hyperlink" Target="http://www.cellphonesafety.info/five-steps.html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coe.ksu.edu/digitalcitizenship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26668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ital Citizenship - Framework for Teaching Digital Citizen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4382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ke Rib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ctional Services Coordin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ge of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nsas State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ellgirl"/>
          <p:cNvPicPr/>
          <p:nvPr/>
        </p:nvPicPr>
        <p:blipFill>
          <a:blip r:embed="rId1"/>
          <a:stretch/>
        </p:blipFill>
        <p:spPr>
          <a:xfrm>
            <a:off x="2195640" y="685800"/>
            <a:ext cx="4510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1143000" y="914400"/>
          <a:ext cx="7086600" cy="49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70866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31120" y="457200"/>
            <a:ext cx="8634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1: 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Lisa receives the cell phone, Lisa’s parents sit dow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her and discuss their excitement as well as the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s about having a cell phone.  They provide Lisa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about cell phone usage and they take tim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ir concerns that include etiquette as well as dri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ly when using the cell phone. They identify websites su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www.cellmanners.com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www.cellphonesafety.info/five-steps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will allow Li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come more aware of the issues related to cell phon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identify specific expectations of her behavior when u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ll phone.  Her parents take her back to the compa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hey purchased the phone.  They let Lisa ask ques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listen carefully to the conversation.  Lisa and her par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speak to other parents and friends who use cell ph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32200" y="193680"/>
            <a:ext cx="86648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2: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isa and her parents learn more about the cell ph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, they began to talk about the implications of 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Citizenship behavior.  The conversation focuses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and inappropriate uses of the cell phon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wever, they stress appropriate ways of using the cell ph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ather than over-focus on the neg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Next, they ask Li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policies of her school concerning cell phone us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ally, they want her to find out if she can take it to sch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hen, where, how, etc.).  Lisa brings home the Accep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olicy (AUP) that deals with cell phone use on sch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y.  They engage in a series of conversations dea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scenarios (situations) where they ask her to indic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e will use the cell phone in school and with her friend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rpose of the conversations is to ensure that she ha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grasp of the issues and that her friends may not alw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good role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28600" y="685800"/>
            <a:ext cx="8697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3: 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a’s parents begin to allow her to use her phone on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basis.  They make it a point to discuss school ev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sk her to reflect on previous conversations dealing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phone use.  Lisa relates how she is using the cell phon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freely discusses some of her mistakes such as forget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urn her cell phone to vibrate when she is having a priv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ation.  Lisa’s parents try not to be overly harsh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re her that this is a learning process.  They indicate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ave made similar mistakes when they got their cell phone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73600" y="304920"/>
            <a:ext cx="8864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4: Delib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a is granted more privileges because she proves hersel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responsible.  Lisa and her parents sit down and talk ab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 use of the cell phone on a weekly basis.  They discuss h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feels when using the phone.  They also talk about h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 use cell phones and examine situations (scenarios)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itute misuse and abuse.  Lisa’s parents ask Lisa to kee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hort diary dealing with cell phone use.  They ask her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her cell phone behavior for two weeks.  Lisa’s par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her to think about mistakes or any bad habits she h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and how she plans to avoid future mistak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a continues to get additional privileges because she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ing responsible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gital Reflection and parental guid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pear to be strategies that help her in refining 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gital Citizenship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1066680" y="914400"/>
          <a:ext cx="7086600" cy="49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914400"/>
                    <a:ext cx="70866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600920" y="2362320"/>
            <a:ext cx="6350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dditional information visit our website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http://coe.ksu.edu/digitalcitize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 for your attention - What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heckmess"/>
          <p:cNvPicPr/>
          <p:nvPr/>
        </p:nvPicPr>
        <p:blipFill>
          <a:blip r:embed="rId1"/>
          <a:stretch/>
        </p:blipFill>
        <p:spPr>
          <a:xfrm>
            <a:off x="1828800" y="809640"/>
            <a:ext cx="541008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130400" y="1487520"/>
            <a:ext cx="666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re we to determine what is conside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- and what is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f we have trouble determining wha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, how will our children and stud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that determin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our definition of what is appropriate ch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time, or in the next gene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2"/>
          <p:cNvGraphicFramePr/>
          <p:nvPr/>
        </p:nvGraphicFramePr>
        <p:xfrm>
          <a:off x="1143000" y="914400"/>
          <a:ext cx="7086600" cy="49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70866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541800" y="990720"/>
            <a:ext cx="8198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Awareness -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nowledge of technology and how it affects others and my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people use technology without having even a basic awareness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pose of a digital technolog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need to “see themselves” using technology before using i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awareness, many problems emerge without users realizing it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I recognize when there is an issue of inappropriate us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hnology? 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I considered the appropriateness of my actions?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 differentiate which of my actions are considered misuse or abus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y or why no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I aware of the implications of my actions when using technolog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618840" y="838080"/>
            <a:ext cx="782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Understanding -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grasp the uses of technology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considered appropriate or inappropri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there is awareness of how a technology works, then users ne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dentify which uses are considered misuse or abuse to better underst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priate technology use.  Users need to have an idea of the out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ir actions prior to it happe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I violating laws, policies, or moral codes by using technology in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y?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I seen, read, or heard of similar situations?  What wa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co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 Digital Citizenship provide direction for determining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priateness of my actions?  H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618840" y="838080"/>
            <a:ext cx="79804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Action -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echnology in the most appropriate w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information avail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ng able to use technology by understanding its implications to other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 is a critical process in Digital Citizenship.  Too often users only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rned with this stage without reflecting on the other part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-Stage Technology Learning Framework.  But by moving throu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arlier stages they and others around them can have a better experi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echnolog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the information available, have I made the best decision in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tuation? 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would others, who I respect, act in a similar situ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the tenants of Digital Citizenship support my action in this situati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387000" y="762120"/>
            <a:ext cx="8430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Evaluation -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ing about how technology was used and determ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 was appropri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an be difficult to “go back” and think about one’s actions after they occurr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a necessary part of the process to decide if the user was correct or no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time to contemplate, this action will most be the same action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I satisfied with my decision? 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I satisfied with the outcome of the situation? 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d my behavior have a positive or negative influence on others?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I go back and evaluate how I used the technology and look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s that might be considered for the future? 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I think about the nine areas of digital citizenship and see if there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ements that should be evaluated? 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04920" y="380880"/>
            <a:ext cx="84582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al Refle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the Four-Stage Technology Learning Frame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Understanding Digital Citizen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a’s Birthday Pres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a wants a cell phone.  She feels “out of touch” with her friends because the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have cell phones and they want to keep in touch with her.”  Lisa’s parents 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rned about having their daughter act responsible when using a cell ph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have seen friends’ children use cell phones inappropriately on numerous occa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.g. talking to their friends when they are with their parents, talking loudly in public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ing pictures without people’s permission).  They are especially concerned abo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fety issues (such as driving a car while using a cell phone).  After careful though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a’s parents decide to buy her a cell phone for her upcoming sixteenth birthd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Lisa’s birthday gets closer they go out and begin to look at different phone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reless plans.  Lisa would like a small cell phone with a built-in camera so that she c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pictures of her friends.  Her parents are not sure if having a phone with a camera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good idea, but their price is almost the same as the regular cell phones.  On her birthda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a’s parents present her with the cell phone.  But they make one request.  Before s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gins using the cell phone, she must follow the Four-Stage Learning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gage in Digital Reflection) before using her cell phone on a regular basi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5:02:16Z</dcterms:created>
  <dc:creator>Mike Ribble</dc:creator>
  <dc:description/>
  <dc:language>en-US</dc:language>
  <cp:lastModifiedBy>public</cp:lastModifiedBy>
  <dcterms:modified xsi:type="dcterms:W3CDTF">2009-02-09T19:44:24Z</dcterms:modified>
  <cp:revision>6</cp:revision>
  <dc:subject/>
  <dc:title>Digital Citizenship - Framework for Teaching Digital Citizenship</dc:title>
</cp:coreProperties>
</file>